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12193588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0"/>
            <a:ext cx="6760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dt" idx="70"/>
          </p:nvPr>
        </p:nvSpPr>
        <p:spPr>
          <a:xfrm>
            <a:off x="3828600" y="-360"/>
            <a:ext cx="29307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sldImg"/>
          </p:nvPr>
        </p:nvSpPr>
        <p:spPr>
          <a:xfrm>
            <a:off x="401400" y="1240920"/>
            <a:ext cx="5957640" cy="335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body"/>
          </p:nvPr>
        </p:nvSpPr>
        <p:spPr>
          <a:xfrm>
            <a:off x="676080" y="4779720"/>
            <a:ext cx="5408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71"/>
          </p:nvPr>
        </p:nvSpPr>
        <p:spPr>
          <a:xfrm>
            <a:off x="0" y="9433080"/>
            <a:ext cx="2930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 type="sldNum" idx="72"/>
          </p:nvPr>
        </p:nvSpPr>
        <p:spPr>
          <a:xfrm>
            <a:off x="3828600" y="9433080"/>
            <a:ext cx="29307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2410-7C3E-40E2-9FB5-552DCA3AA9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28960" y="9433080"/>
            <a:ext cx="29307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48FB-4590-4B4E-AF39-91225D9F5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401760" y="1241280"/>
            <a:ext cx="5957640" cy="3351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76080" y="4779720"/>
            <a:ext cx="54082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EF7-B497-490B-80FC-8335832E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1EF-C9BA-4494-AC59-7B7ED259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39D9B-1181-429E-AE61-21D0D82F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E3B49-0BDD-4750-949B-CB0E07F8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86975-4E03-4A7F-887D-6D71B592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9D6BE-B4D4-42A7-BBC2-8A55E87C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AF0A7-45AD-47F2-8B2F-A6A03BE5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F958B-ACA9-4088-9F3A-EF459845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AD512-F7DA-4EB2-A7F4-BE1D09CF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D0EB3-0DD6-4858-8CD2-AF38ED62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141B3-DE54-4F08-BB00-C2EF3850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D0F80-DCC4-42F9-9811-2C9DB28F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9F9-4834-4E0D-95C4-E2989A79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CBD50-ABF6-4E04-A1F5-1DC2908C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FF5DA-7295-4EC4-A6EC-EBEE767D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146EB-4712-4783-B944-8895E72F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207D7-4CE3-48BC-91FB-31DA1ED7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996DA-135B-454E-9F9C-C39F7F90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06077-5B02-44DA-A835-C9EA7BC6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07FAD-CFAE-4266-8EF3-6ED80B0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8F2D9-8852-41F1-910B-ADE65D0B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E80CB-7110-4124-ABF3-00DF4579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61583-E88F-4E2C-AAB4-26FAB579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15C-AF33-4C91-A95E-B3D04523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DD255-266A-421E-B3DD-9CAA0D68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F2581-1825-420D-8E8A-E85C2FE7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F2217-100F-46C2-8DD3-E71BF0FA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44455-D971-4490-86B8-54830218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F6B36-853B-49FD-8182-9E0250D8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9BDE4-BF27-4605-BE45-1B89B47E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38380-2D36-443E-B6C2-61236B60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C4A65-A696-46D9-A353-B2BB1D86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259F4-9DB0-44BF-B86B-F6EC65B6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3C0E3-63D1-4F9B-8777-E8B6915F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2AD3-44A5-4978-8E5B-FD9FA09D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EE886-F2A5-448A-82A4-08C63373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F9D58-43D6-40A4-9734-BB6B4380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62161-A00D-45F1-A401-6E5719D5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DE034-EED5-4939-8CD6-3594F0B8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FDA3F-34A0-422F-B14D-5A3D900E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8B1A8-FAE7-4E9D-B9E3-752A806A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D33BC-7577-49D2-87AD-28997B1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07415-A184-4381-B0CE-CDCA79AF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36646-B439-428B-B514-10B06DD6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48320-98D9-4F3A-AF7F-75B86FEA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9FB1-A4E7-419C-A097-4F0DE471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D637A-EF2D-421F-9639-D9228ECC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63F3F-731F-4709-AA77-9E0A4FE0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B5639-73E4-454A-BDE6-FA3B00D8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0E8EC-C9F1-4D00-A2EA-37E0BD30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A4861-3FC3-4070-8779-CB38332D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CB0E1-DD9B-43E5-AC24-23678848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22BF3-958A-43A6-9730-CE99352C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DDCFC-7D0A-4812-A5C6-52E93395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AD593-7F3C-4C3B-B2DE-D2DDA1A0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F1740-DC71-47EB-8A0B-820E71BE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9F41-4DC9-40FC-8020-2A08A35D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42D52-8428-4DC3-9271-4508A39B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25E09-C880-4BC0-974B-6D5CA0A3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E9A8F-EA07-40A5-9701-49B1D03A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32138-DF3B-44BD-A4EE-D053BE7B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3DD51-746C-4C0B-8B6A-92828843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B2F8E-8490-4FCA-8EE0-9C124B75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D3C2D-89E0-474E-A25F-2F198219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D4288-E6B0-4F9E-ADFC-721A4549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74EF7-FBA7-4028-8C46-B8E5F01A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B8106-110F-45BB-B068-C5786581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45D6-50FF-475D-9384-6D2EC914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1AA5B-389B-4571-9FA0-257B88D6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31978-8C3A-4600-B140-D749A794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5B8D1-B8B3-44F3-83C6-7EA0AC3F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FCBF9-B970-440F-A5CD-AEEF725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EB567-4DFF-4F37-A9F4-BC66EA15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66B05-5BE9-40C2-996B-D0345719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1EF47-27D5-43D5-A8CB-702F9564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C30DA-CDAD-43AC-9D7E-ADDCE4DF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0CBB2-A7E7-44AF-B5B8-67B22BEB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75EFD-D020-4B24-9656-DB87EBD8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4A7F-EF33-4AC1-A2EB-374AB889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74E1C-9C98-4F20-ABA8-38B85F25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41FE8-D13F-4A0E-AA62-237C3048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2CC18-1070-41F1-9DA1-B46B244A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6A669-A9EE-4050-A4A2-D12AA850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E2172-F760-4A4E-AE67-0EE938A8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DB561-7229-4A22-AB05-1C5F9570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AEAA2-073C-4843-A7D9-77465C3A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DA3B2-BCBB-4B53-B7AB-323F705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984BD-F746-4C4C-A429-5DD13889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53103-E9FC-478E-8E95-05BB4D3D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5BFE-2E6B-4739-B234-D4E8A840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66E53-6017-43C5-9DE3-92603EF2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08AD2-1B5F-4572-BC82-A6B7AD99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70DF0-A587-465C-92F3-F0ADC169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68B02-61B9-4465-A996-37C6BAB0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EF5DD-5277-447C-AA43-A7E156AC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CBD69-3B9A-4985-8E06-5C365A29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3D2AF-9F12-44F5-B975-B46492EE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5B6E2-FCE9-48A4-9640-A0345E5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E5B1D-C1F6-4175-B438-3E63EB10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24313F-6AB8-4720-9FC5-E8276705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139F-F5CF-435E-958A-B6FE2E5C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8DA57-D2CA-4ED5-9D19-93CD28C9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E7A6D-A8E3-4417-8C2B-FE6C27EE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0C5E9-5BAF-4E2D-AC82-85829A69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3AD63-670A-49E6-914A-345AD5EF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CD7F0-5DFA-44E2-9143-78BBB794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EBA77-6ECB-493D-9287-E4525A43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34043-21B0-4825-96AB-CDED651B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5EDA58-780D-4559-871D-BBFEBD5E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4759D-5811-4188-837B-C614600B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4D2D6-FCF2-4680-BC2C-E7D65DB5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8BB-6EC5-478F-A638-8CE45665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6D90-91EC-499C-B985-76DF91A1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B8EDE-59BD-44B9-9BC0-1A64EFD6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7DBBD-B48C-4531-8CFD-4E274A7D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07B32-D446-4EC8-8BDE-07EDDE86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5924E-B604-46B1-A3C8-DBE4878B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F92F4-DF4F-41AA-8FC0-FB243CEC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731C00-CDA6-4023-83EF-897DD886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F1D9CC-05A2-4CC4-8A02-F9B2773F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ADC15-8D3E-4AD1-954F-FF1C69D9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28BD3-B37A-4340-96EE-A8F1B809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933FC3-1061-4A21-8561-EC7D3C40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B251-6709-464F-9308-596EF114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A247C-1CBE-430C-8E0C-99D3AB59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F4372-2ED5-40C3-8565-822D0010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976439-5130-4038-8B19-11D89818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B0A12-54DA-48ED-9B6A-50D20EBD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C57E6-134F-4E6A-B71C-C2510099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0ED627-9E52-4B0C-BD9A-C2051CA8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0AB65-1BF5-4884-89AB-E0DE3DF6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56181-B5A2-419D-A508-BBAA7387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42FF0-2B8E-4A06-A0F2-0FABBDC2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BFF9D-9AFA-4D81-B92B-3952016F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3CFE-A5D7-49E0-8378-DFA70E09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4F98E-D35E-4F51-AD41-74BE5949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91648-3B0E-4476-906E-8C08E80F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54371-D2E0-4023-BE6B-E76A3211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C0B02E-385B-4033-90E9-5CCC817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A61C16-ED19-4D5D-BED6-B028E6BE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B5515-50DA-486A-9C42-AD1B7DCC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CDEBC-6385-4B8D-817F-9CA5C400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587B6D-3157-4849-9472-E443E94C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15F98-9C9C-4FD3-8AF3-02D4F1A8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8525E-DCC3-40E3-8AEE-1F8D9B2E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DE76-0705-4D70-AE82-F6EBCF74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851EA-4024-4D30-A051-297DFB8D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9409F8-10BA-46F7-BFA1-D9842221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A5EE97-1918-4D3D-96DD-9552B211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BDD832-B833-46F6-ACE8-41A53EE9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82BF3E-3B27-4CED-9C7B-04D818CD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4ABF1C-ACC3-40F1-9802-1DFFAEDA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4FEBC-E110-49AF-B088-97C72DFB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B6948-52EF-4FF5-BA18-E9FBC92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7AE4A-9AFC-48F0-812F-55A8172A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AFE8F-6E9D-4546-BD5D-09D7D39A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3E4D-F690-4ADC-84DD-190799C2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DAE72-A2CF-41E4-81C4-42E475BF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4A4909-4EBA-4B84-809F-43F6A3F1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8CC7F-CF2D-4F4D-8AB2-DD942774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7183A-6E81-4A16-A16C-7B0079C5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76C658-FB42-4FA4-A9E7-FD76B55D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2DF68-C25A-41FB-BAF4-D1DBA7D4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F35B5-5F0E-4ABB-B50D-248EE57E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79FF4E-DA4D-467E-83B0-EF9E14F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DD419C-A819-457C-A2C5-3DE5AD48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9C5AC2-1CDE-42F9-BD2C-06EAECB8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641739-8E26-4DEA-9B62-781372AC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94001F-C122-4644-8A57-0A92D5A6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E91EE7-91C1-4344-B712-5EDB9FB7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AB0521-FC8B-4DAD-8E79-2A75D9B4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06C30F-9214-409F-A6D1-7E080544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DB46AA-18B7-4C35-85A7-DC05AF29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1B3E90-0E30-486B-9562-A841C672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25B2C0-8971-4C28-8425-9E0EC0D6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3B5C62-5056-4479-9F49-DEBC35BC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EE44F3-01B9-4DF2-9ADB-A2FCD943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98879-9732-4036-8038-2FC7C689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89E4F6-8769-41D8-B140-1AFB3580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2C439-098C-4722-A821-66E3F910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7B6948-6514-45B8-870D-17CBA598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D7937C-5151-4994-9A65-F1B39CD7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1E391C-1EFF-4DEF-AB49-026228EA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B6DF47-4FFB-4E73-8672-310F8C85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A49C49-5C90-4E08-9034-4F647087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2D7E45-CE45-432F-9A8C-C5A186DD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0222EE-C4FF-4E77-A72C-479122C2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4BF226-FB87-40C3-A5F4-1841A1F5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16CEF2-8FC7-4255-9C11-62109170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913D8A-01A3-4415-AC20-91AECD77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22DA41-968C-482A-80FF-DCDB13EF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426B2B-6F1E-4F78-AE26-6CEBD8AA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4395BD-6D26-412D-98CF-39361AC1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6CDFC0-3E21-4EB7-9D15-01A5D3E0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AC4E5C-BCB8-453A-BA47-5EB0C3E5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D964D4-E7ED-45F5-86E7-A97574A7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EC40CE-89D6-418A-ABA2-A9143374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059F24-9069-41CB-936A-7D0A7596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111761-9D05-47E3-8F70-9FD4E286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432175-DF69-4DC8-AD99-02B86DFA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45173C-5F2F-4053-9B65-17913F47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DD11FC-4416-4080-80DB-C45BBEBC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E8A41-F7CF-4733-AB08-5FD9277A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E55217-1D35-4FFE-94F9-FDC044B2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B88696-6BC7-40EC-9943-4D42FED1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49BC62-E4EE-4337-A135-8AD6F07C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912-34DF-4B27-910C-FB72B3B6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182F-E827-4DC2-AFBA-C4CC36BA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2FF3-B020-4266-B324-051E4028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B8F3-B936-4115-A500-C9A24547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DFA-BD93-4E4A-8AEF-84C29F66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85DC-A0F4-4A82-AF70-E0C9944C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17D2-9CE5-4675-AA19-87927BD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3853-D113-49D7-B4E6-95A05CD7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CC664-B175-4EA6-B79C-709AE7AF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0DD00-7708-4813-881D-950ED28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0124-943F-4E74-BA97-39761BA7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15FC-4339-4932-A96B-72392F60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7E8D-6DF0-46F9-A539-C71BCF70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3F33-E2EA-4BD9-9601-997CC036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E97F-C285-495B-B235-9A416367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C95-872C-4DDB-BD7C-D7C58BA5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05CE7-FAA6-4AA2-9755-4422A9BD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E6DF9-B519-4176-8ED5-47D8545C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3769F-5FE0-4E0F-8170-4F7CD314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2DA33-81C1-4512-8270-7BF6093A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9909-F1A0-4604-B385-4B165157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31490-D7B9-4E64-B0DD-5C63AE26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5D6E4-0767-4DF0-BD9A-1232DF28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67EE0-4579-4533-B1E4-4FDD01DA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6007-71E8-4E36-A09E-4EA1E7AE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FE3A-6FAC-481E-AE25-A54E1F5E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0EB-7403-4731-B671-9EC98A43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C6A25-42A4-499A-B9EF-C8159451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4F5EE-21F6-49B2-9CC6-B4C5699F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F7016-A446-4056-81CB-DDAFEF33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7706D-21DF-4EF1-B82B-20807342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0D82A-F4A6-4850-ABE2-2826A37E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7589E-957A-443A-AC06-09506B21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E39DE-4D57-4A1E-BFCE-F497A2F5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17DD-3145-4EA0-A5E1-8AAF572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EDDF9-B2C3-4B14-9490-488B7E11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7D8CB-7A23-4C75-984B-E2398AC0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4CD-4C09-48C6-B603-111D90C7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E67C9-BC51-47E6-907D-0C416527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607F5-A563-4ABD-91AE-803C41D5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C5871-4395-45FA-BD7A-5E1C99A8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61F84-E0D7-4691-A9EC-FF58DF76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A09CB-7777-44C7-B0D0-EED0C02E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7A586-F17A-4B4A-8F9D-9C6D1417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79A9B-3FE0-4274-8610-5F41EA79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79DD7-0203-4700-AB0F-932F748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B0993-1C43-4C9A-8F7A-CDCCC6CC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CEB6A-6740-49D9-8D98-E118B2B9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B7B-214E-4BBA-9624-0E0A20E2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A6C53-D874-43FD-AE9E-D6415272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D8830-586C-457C-A9A7-CAF60DB4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16CEC-D6DC-4D34-A0E6-086F9035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CFD6-2CAC-4A42-B860-ED65AB74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9D9DA-AF0F-4E10-AA09-DC6A4FFF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C1D3-C32F-49F1-962C-D1AEA0EA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03A2D-E18F-4DDB-B236-24DC9529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1567-BFAC-4830-ABF8-64460736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4B4E3-2E23-42E8-82A5-209CDB82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B6370-B61F-4850-9D0E-BF82E5F6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8B2-C93E-4A3C-A361-3027A7FA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4E1C1-3FB0-4D7C-9D9C-2E33B6A0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F2030-0C6E-4617-A28D-57B56FFB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AA51F-794E-4BFA-AE7B-ED5046E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95AB1-624A-4D8A-8F9D-F373FB4A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A4299-57E0-4FA0-AEA3-D43C24B0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86747-1E3B-4489-A98D-DED30406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1839D-CBC9-4D1B-8DBE-9DB54232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6D759-8E46-44EF-A1B8-7AF12F35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1FA99-6F49-47FB-B170-9C978DD3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35C69-0609-435D-96F8-5937224E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3254-6E0C-4141-BC64-993346F2EA32}" type="slidenum">
              <a:rPr b="1" i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BF20-479F-4750-909B-7884DA6183C6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0234-D756-49D2-8144-557F687DBC33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3846-FAEB-4EEF-AD6B-ECDEC20B76A5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219D-F0CE-4139-B792-D1884C741735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2340-FEAD-4884-8DCA-5A17AFF44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6951-270D-404B-97D5-0503F4B1A4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DE29-92CD-4B9F-A706-3B49C5A7D3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270B-9B93-45DC-9473-FB8F77A95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6CFE-3665-459F-BE9D-63ECC8380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5960-E56F-4BE8-A646-D51D3234C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784E-C9BE-413B-8044-37AD2A991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2E26-D677-4596-AC60-B88854B25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B54E-D055-4097-97E0-9C69BB3ED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9C86-C245-424E-9B7F-DF90BEE3E7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AE2F-AC44-411F-B548-ABE5F35D1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65A7-D8F8-4B16-89F5-34126D5AB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969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15C9-F491-4793-98B1-9DA7F6653263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0F4C-CB4F-45AF-B8D0-4B733CE9B3C0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AF11-677C-4820-BBB7-255B4938C2AB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4685-B37F-4A79-9331-C2353E803D90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C7DC-C67D-43E4-9B35-757B660AB4FC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80A3-66AB-4FF7-BF7E-95330BDFBD7E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Рисунок 1" descr=""/>
          <p:cNvPicPr/>
          <p:nvPr/>
        </p:nvPicPr>
        <p:blipFill>
          <a:blip r:embed="rId1"/>
          <a:stretch/>
        </p:blipFill>
        <p:spPr>
          <a:xfrm>
            <a:off x="8674200" y="4797360"/>
            <a:ext cx="1920600" cy="2048040"/>
          </a:xfrm>
          <a:prstGeom prst="rect">
            <a:avLst/>
          </a:prstGeom>
          <a:ln w="0">
            <a:noFill/>
          </a:ln>
        </p:spPr>
      </p:pic>
      <p:sp>
        <p:nvSpPr>
          <p:cNvPr id="990" name="Text Box 6"/>
          <p:cNvSpPr/>
          <p:nvPr/>
        </p:nvSpPr>
        <p:spPr>
          <a:xfrm>
            <a:off x="4203720" y="58975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2719440" y="135000"/>
          <a:ext cx="6696000" cy="70164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cd5b5"/>
                          </a:solidFill>
                          <a:latin typeface="Arial"/>
                        </a:rPr>
                        <a:t>БЮРО СУДЕБНО-МЕДИЦИНСКОЙ ЭКСПЕРТИЗЫ МОСКОВСКОЙ ОБЛАСТИ</a:t>
                      </a:r>
                      <a:r>
                        <a:rPr b="1" lang="en-US" sz="1800" spc="-1" strike="noStrike">
                          <a:solidFill>
                            <a:srgbClr val="fcd5b5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fcd5b5"/>
                          </a:solidFill>
                          <a:latin typeface="Arial"/>
                        </a:rPr>
                        <a:t>ГБУЗ МО «Бюро СМЭ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</a:tr>
            </a:tbl>
          </a:graphicData>
        </a:graphic>
      </p:graphicFrame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704600" y="1341360"/>
            <a:ext cx="871236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ЕЗУЛЬТАТЫ ТЕМАТИЧЕСКОЙ ПРОВЕРК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Актов судебно-медицинских исследований (Заключений эксперта) в случаях смерти от новообразований </a:t>
            </a:r>
            <a:br>
              <a:rPr sz="2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ЗА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1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ЛУГОДИЕ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015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ОДА</a:t>
            </a:r>
            <a:br>
              <a:rPr sz="2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Схема 3" descr=""/>
          <p:cNvPicPr/>
          <p:nvPr/>
        </p:nvPicPr>
        <p:blipFill>
          <a:blip r:embed="rId2"/>
          <a:stretch/>
        </p:blipFill>
        <p:spPr>
          <a:xfrm>
            <a:off x="3090960" y="5735520"/>
            <a:ext cx="6046560" cy="757440"/>
          </a:xfrm>
          <a:prstGeom prst="rect">
            <a:avLst/>
          </a:prstGeom>
          <a:ln w="0">
            <a:noFill/>
          </a:ln>
        </p:spPr>
      </p:pic>
      <p:sp>
        <p:nvSpPr>
          <p:cNvPr id="994" name="Прямоугольник 6"/>
          <p:cNvSpPr/>
          <p:nvPr/>
        </p:nvSpPr>
        <p:spPr>
          <a:xfrm>
            <a:off x="0" y="4091040"/>
            <a:ext cx="12192120" cy="1498680"/>
          </a:xfrm>
          <a:prstGeom prst="rect">
            <a:avLst/>
          </a:prstGeom>
          <a:solidFill>
            <a:srgbClr val="4f81bd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С.А. Жулин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врач организационно-методического отде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Зав. Красногорским СМ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ГБУЗ МО «Бюро судебно-медицинской экспертизы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ибки в оформлении судебно-медицинского диагн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4" name="Объект 5"/>
          <p:cNvGraphicFramePr/>
          <p:nvPr/>
        </p:nvGraphicFramePr>
        <p:xfrm>
          <a:off x="787320" y="2013120"/>
          <a:ext cx="10617120" cy="44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013120"/>
                    <a:ext cx="10617120" cy="44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6" name="Прямоугольник 6"/>
          <p:cNvSpPr/>
          <p:nvPr/>
        </p:nvSpPr>
        <p:spPr>
          <a:xfrm>
            <a:off x="4530600" y="1600200"/>
            <a:ext cx="6823080" cy="305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ые ошибки, выявленные в ходе провер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верный (необоснованный) выбор основной нозологической единиц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гистологической характеристики злокачественного новообразов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рубрификации диагноза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кращение, обобщение основных морфологических проявлений (неполнота диагноз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морфологических проявлений таких осложнений как «интоксикация», «печеночно-почечная недостаточность»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в диагнозе сведений о проведенных хирургических операциях по поводу новообразов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есение метастазов в рубрику «осложнения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ибки в заключении о причине смер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Объект 5"/>
          <p:cNvGraphicFramePr/>
          <p:nvPr/>
        </p:nvGraphicFramePr>
        <p:xfrm>
          <a:off x="558720" y="1549440"/>
          <a:ext cx="110743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549440"/>
                    <a:ext cx="110743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Прямоугольник 6"/>
          <p:cNvSpPr/>
          <p:nvPr/>
        </p:nvSpPr>
        <p:spPr>
          <a:xfrm>
            <a:off x="4551480" y="1409760"/>
            <a:ext cx="6691320" cy="288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шибки, выявленные в ходе провер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сутствие непосредственной причины смерти (смертельного осложнения) в вывода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сутствие указания на конкретную нозологическую единицу (основную причину смерти) в вывода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обоснованная непосредственная причина смерти (не соответствующая отмеченным морфологическим признакам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96480"/>
            <a:ext cx="10972800" cy="2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Прямоугольник 4"/>
          <p:cNvSpPr/>
          <p:nvPr/>
        </p:nvSpPr>
        <p:spPr>
          <a:xfrm>
            <a:off x="430200" y="574560"/>
            <a:ext cx="11761920" cy="61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изводство судебно-медицинских экспертиз (исследований) трупов при смерти от новообразований в ряде случаев  проводится с существенными недостатками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повышения качества судебно-медицинских исследований трупов в случаях смерти от злокачественных новообразований необходимо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ваться предоставления первичной информации о новообразовании, медицинском наблюдении до начала исследования трупа (работа с правоохранительными органами, назначающими исследование трупа, с медицинскими организациями – поликлиниками – предоставление медицинских карт амбулаторного больного с заполненным посмертным эпикризом до начала исследования трупа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порядка производства судебно-медицинских экспертиз в государственных судебно-медицинских учреждениях, утвержденного приказом №346н Министерства Здравоохранения РФ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ценное описание наружных и внутренних макроскопических признаков для обоснования основной и непосредственной причин смерти (прицельное описание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злокачественного новообразования (локализация, форма, размеры, цвет, плотность, прорастание в окружающие ткани, метастазов, регионарных и отдаленных лимфатических узлов, наличие некрозов и кровоизлияний в новообразованиях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ый набор материала для гистологического исследования, обязательное проведение гистологического исследования для определения морфологической характеристики новообразования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ный выбор причин смерти при заполнении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го свидетельства о смерти; обоснованный выбор кода МКБ-10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ное построение судебно-медицинского диагноза, обоснованное построение вывода о причине смерти, включающего основную и непосредственную причину смерти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Рисунок 1" descr=""/>
          <p:cNvPicPr/>
          <p:nvPr/>
        </p:nvPicPr>
        <p:blipFill>
          <a:blip r:embed="rId1"/>
          <a:stretch/>
        </p:blipFill>
        <p:spPr>
          <a:xfrm>
            <a:off x="6815160" y="1173240"/>
            <a:ext cx="3938400" cy="5398920"/>
          </a:xfrm>
          <a:prstGeom prst="rect">
            <a:avLst/>
          </a:prstGeom>
          <a:ln w="0">
            <a:noFill/>
          </a:ln>
        </p:spPr>
      </p:pic>
      <p:pic>
        <p:nvPicPr>
          <p:cNvPr id="1034" name="Рисунок 2" descr=""/>
          <p:cNvPicPr/>
          <p:nvPr/>
        </p:nvPicPr>
        <p:blipFill>
          <a:blip r:embed="rId2"/>
          <a:stretch/>
        </p:blipFill>
        <p:spPr>
          <a:xfrm>
            <a:off x="1374840" y="1170000"/>
            <a:ext cx="3781440" cy="5400720"/>
          </a:xfrm>
          <a:prstGeom prst="rect">
            <a:avLst/>
          </a:prstGeom>
          <a:ln w="0">
            <a:noFill/>
          </a:ln>
        </p:spPr>
      </p:pic>
      <p:sp>
        <p:nvSpPr>
          <p:cNvPr id="1035" name="Прямоугольник 3"/>
          <p:cNvSpPr/>
          <p:nvPr/>
        </p:nvSpPr>
        <p:spPr>
          <a:xfrm>
            <a:off x="1808280" y="152280"/>
            <a:ext cx="8381880" cy="90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уководства и справочники по построению диагно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8" descr="D:\RADUGA_DESIGN\Выставка_КрокусСити_21_24\Правительство Москвы\Spolohi 02 Correct\Spolohi 02 Correct_opasity.png"/>
          <p:cNvPicPr/>
          <p:nvPr/>
        </p:nvPicPr>
        <p:blipFill>
          <a:blip r:embed="rId1"/>
          <a:stretch/>
        </p:blipFill>
        <p:spPr>
          <a:xfrm>
            <a:off x="1735200" y="-731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7" name="Заголовок 1" descr=""/>
          <p:cNvPicPr/>
          <p:nvPr/>
        </p:nvPicPr>
        <p:blipFill>
          <a:blip r:embed="rId2"/>
          <a:stretch/>
        </p:blipFill>
        <p:spPr>
          <a:xfrm>
            <a:off x="1523880" y="1127160"/>
            <a:ext cx="9144000" cy="5730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Y:\D\правила\Книга идентификация\business_people_03.tif"/>
          <p:cNvPicPr/>
          <p:nvPr/>
        </p:nvPicPr>
        <p:blipFill>
          <a:blip r:embed="rId3"/>
          <a:stretch/>
        </p:blipFill>
        <p:spPr>
          <a:xfrm>
            <a:off x="1633680" y="4870440"/>
            <a:ext cx="1670040" cy="1779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1" descr=""/>
          <p:cNvPicPr/>
          <p:nvPr/>
        </p:nvPicPr>
        <p:blipFill>
          <a:blip r:embed="rId4"/>
          <a:stretch/>
        </p:blipFill>
        <p:spPr>
          <a:xfrm>
            <a:off x="0" y="-27000"/>
            <a:ext cx="12192120" cy="1171440"/>
          </a:xfrm>
          <a:prstGeom prst="rect">
            <a:avLst/>
          </a:prstGeom>
          <a:ln w="0">
            <a:noFill/>
          </a:ln>
        </p:spPr>
      </p:pic>
      <p:sp>
        <p:nvSpPr>
          <p:cNvPr id="1040" name="Прямоугольник 1"/>
          <p:cNvSpPr/>
          <p:nvPr/>
        </p:nvSpPr>
        <p:spPr>
          <a:xfrm>
            <a:off x="3865680" y="5310360"/>
            <a:ext cx="6410160" cy="117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улин С.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ведующий Красногорским судебно-медицинским отделением ГБУЗ МО «Бюро СМЭ»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рач судебно-медицинский эксперт организационно-методического отдела ГБУЗ МО «Бюро СМЭ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zhulin@sudmedmo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3"/>
          <p:cNvSpPr/>
          <p:nvPr/>
        </p:nvSpPr>
        <p:spPr>
          <a:xfrm>
            <a:off x="0" y="200160"/>
            <a:ext cx="6846840" cy="76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54061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13 мая 2015 го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в ГБУЗ МО «Бюро СМЭ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издано распоряж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о выборочной тематической проверк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Актов судебно-медицин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исследования тру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(Заключений эксперт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за 2015 год в случаях смер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Times New Roman"/>
                <a:ea typeface="Calibri"/>
              </a:rPr>
              <a:t>от новообразов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Рисунок 1"/>
          <p:cNvSpPr/>
          <p:nvPr/>
        </p:nvSpPr>
        <p:spPr>
          <a:xfrm>
            <a:off x="0" y="820800"/>
            <a:ext cx="52149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Group 6"/>
          <p:cNvGrpSpPr/>
          <p:nvPr/>
        </p:nvGrpSpPr>
        <p:grpSpPr>
          <a:xfrm>
            <a:off x="6753240" y="0"/>
            <a:ext cx="5438880" cy="6858000"/>
            <a:chOff x="6753240" y="0"/>
            <a:chExt cx="5438880" cy="6858000"/>
          </a:xfrm>
        </p:grpSpPr>
        <p:sp>
          <p:nvSpPr>
            <p:cNvPr id="998" name="AutoShape 5"/>
            <p:cNvSpPr/>
            <p:nvPr/>
          </p:nvSpPr>
          <p:spPr>
            <a:xfrm>
              <a:off x="6753240" y="163800"/>
              <a:ext cx="5438880" cy="66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9" name="Picture 7" descr=""/>
            <p:cNvPicPr/>
            <p:nvPr/>
          </p:nvPicPr>
          <p:blipFill>
            <a:blip r:embed="rId1"/>
            <a:srcRect l="6556" t="3249" r="5179" b="8205"/>
            <a:stretch/>
          </p:blipFill>
          <p:spPr>
            <a:xfrm>
              <a:off x="6753240" y="0"/>
              <a:ext cx="514548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838080" y="151920"/>
            <a:ext cx="10515600" cy="65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выборочную тематическую проверку было представлено 135 Актов судебно-медицинского исследования трупа (Заключений эксперта) в случаях смерти от злокачественных новообразований и 6 Актов судебно-медицинского исследования трупа (Заключений эксперта) в случаях смерти от доброкачественных новообразований. При проверке учитывались следующие критерии качества судебно-медицинских исследова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оответствие составленного экспертного документа (Акта судебно-медицинского исследования трупа, Заключения эксперта) – нормативно-правовым документам,  требованиям организационно-методического отдела ГБУЗ МО «Бюро СМЭ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оответствие перечня материалов представленных эксперту (изученных) – перечню материалов в направительном документе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изучение медицинских документов, материалов проверк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бота с медицинским документами, внесение сведений из них в акт судебно-медицинского исследования трупа (заключение эксперт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ачество наружного исследования трупа (соответствие трупных явлений – известному времени наступления смерти; описание периферических лимфоузлов; новообразований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ачество внутреннего исследования трупа (прицельное описание новообразований, регионарных лимфоузлов, прицельное описание тканей в зоне проведенных операций по удалению новообразований;  полнота описания макроскопической картины осложнений новообразований; полнота направления материала для гистологического исследования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данные медицинского свидетельства о смерти (соответствие указанной причины смерти в МСС проведенному исследований, патогенетическая последовательность указанных причин смерти в пункте 19 МСС, соответствие кода МКБ-1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олнота и обоснованность судебно-медицинского диагноза (соответствие проведенному исследованию трупа, наличие гистологической характеристики новообразова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боснованность заключения о причине смерти, указание основной и непосредственной причин смерти в заключени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7" descr=""/>
          <p:cNvPicPr/>
          <p:nvPr/>
        </p:nvPicPr>
        <p:blipFill>
          <a:blip r:embed="rId1"/>
          <a:stretch/>
        </p:blipFill>
        <p:spPr>
          <a:xfrm>
            <a:off x="1071720" y="1160640"/>
            <a:ext cx="4614840" cy="53812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140760"/>
            <a:ext cx="109728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ичество случаев смерт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 злокачественных ново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8" descr=""/>
          <p:cNvPicPr/>
          <p:nvPr/>
        </p:nvPicPr>
        <p:blipFill>
          <a:blip r:embed="rId2"/>
          <a:srcRect l="0" t="2829" r="0" b="0"/>
          <a:stretch/>
        </p:blipFill>
        <p:spPr>
          <a:xfrm>
            <a:off x="5900760" y="1219320"/>
            <a:ext cx="52196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109728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учение медицинских документов в случаях смерти от злокачественных новообразований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7" descr=""/>
          <p:cNvPicPr/>
          <p:nvPr/>
        </p:nvPicPr>
        <p:blipFill>
          <a:blip r:embed="rId1"/>
          <a:stretch/>
        </p:blipFill>
        <p:spPr>
          <a:xfrm>
            <a:off x="331920" y="1195560"/>
            <a:ext cx="2971800" cy="54864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8" descr=""/>
          <p:cNvPicPr/>
          <p:nvPr/>
        </p:nvPicPr>
        <p:blipFill>
          <a:blip r:embed="rId2"/>
          <a:srcRect l="0" t="0" r="12309" b="0"/>
          <a:stretch/>
        </p:blipFill>
        <p:spPr>
          <a:xfrm>
            <a:off x="3282840" y="1717560"/>
            <a:ext cx="4008600" cy="3956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9" descr=""/>
          <p:cNvPicPr/>
          <p:nvPr/>
        </p:nvPicPr>
        <p:blipFill>
          <a:blip r:embed="rId3"/>
          <a:srcRect l="4836" t="0" r="16026" b="0"/>
          <a:stretch/>
        </p:blipFill>
        <p:spPr>
          <a:xfrm>
            <a:off x="7338960" y="1428840"/>
            <a:ext cx="455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109728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учения материалов проверки в случаях смерти от злокачественных новообразований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Диаграмма 7" descr=""/>
          <p:cNvPicPr/>
          <p:nvPr/>
        </p:nvPicPr>
        <p:blipFill>
          <a:blip r:embed="rId1"/>
          <a:stretch/>
        </p:blipFill>
        <p:spPr>
          <a:xfrm>
            <a:off x="0" y="914400"/>
            <a:ext cx="3187800" cy="6119640"/>
          </a:xfrm>
          <a:prstGeom prst="rect">
            <a:avLst/>
          </a:prstGeom>
          <a:ln w="0">
            <a:noFill/>
          </a:ln>
        </p:spPr>
      </p:pic>
      <p:pic>
        <p:nvPicPr>
          <p:cNvPr id="1010" name="Диаграмма 8" descr=""/>
          <p:cNvPicPr/>
          <p:nvPr/>
        </p:nvPicPr>
        <p:blipFill>
          <a:blip r:embed="rId2"/>
          <a:stretch/>
        </p:blipFill>
        <p:spPr>
          <a:xfrm>
            <a:off x="2908440" y="1420920"/>
            <a:ext cx="5857560" cy="5145120"/>
          </a:xfrm>
          <a:prstGeom prst="rect">
            <a:avLst/>
          </a:prstGeom>
          <a:ln w="0">
            <a:noFill/>
          </a:ln>
        </p:spPr>
      </p:pic>
      <p:pic>
        <p:nvPicPr>
          <p:cNvPr id="1011" name="Диаграмма 9" descr=""/>
          <p:cNvPicPr/>
          <p:nvPr/>
        </p:nvPicPr>
        <p:blipFill>
          <a:blip r:embed="rId3"/>
          <a:stretch/>
        </p:blipFill>
        <p:spPr>
          <a:xfrm>
            <a:off x="7394400" y="1438200"/>
            <a:ext cx="45720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фекты протокольных частей (наружное и внутреннее исследование труп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Объект 6"/>
          <p:cNvGraphicFramePr/>
          <p:nvPr/>
        </p:nvGraphicFramePr>
        <p:xfrm>
          <a:off x="558720" y="1549440"/>
          <a:ext cx="110743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549440"/>
                    <a:ext cx="110743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Прямоугольник 7"/>
          <p:cNvSpPr/>
          <p:nvPr/>
        </p:nvSpPr>
        <p:spPr>
          <a:xfrm>
            <a:off x="4756320" y="1801800"/>
            <a:ext cx="7043400" cy="3027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ые дефекты, установленные в ходе тематической провер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соответствие трупных явлений при достоверно известном времени наступления смер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чное описание признаков, свидетельствующих о непосредственной причине смерти, в том числе кахексии, малокровии, желтухе, интоксикац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чное описание злокачественного новообразования (локализация, форма, размеры, цвет, плотность, прорастание в окружающие ткани, наличие некрозов и кровоизлияний в новообразован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сутствие описания регионарных и отдаленных лимфатических узл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10972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ведение гистологических исследованиях в случаях смерти от злокачественных новообразований 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Диаграмма 7" descr=""/>
          <p:cNvPicPr/>
          <p:nvPr/>
        </p:nvPicPr>
        <p:blipFill>
          <a:blip r:embed="rId1"/>
          <a:stretch/>
        </p:blipFill>
        <p:spPr>
          <a:xfrm>
            <a:off x="255600" y="1371600"/>
            <a:ext cx="2871720" cy="4840200"/>
          </a:xfrm>
          <a:prstGeom prst="rect">
            <a:avLst/>
          </a:prstGeom>
          <a:ln w="0">
            <a:noFill/>
          </a:ln>
        </p:spPr>
      </p:pic>
      <p:pic>
        <p:nvPicPr>
          <p:cNvPr id="1018" name="Диаграмма 8" descr=""/>
          <p:cNvPicPr/>
          <p:nvPr/>
        </p:nvPicPr>
        <p:blipFill>
          <a:blip r:embed="rId2"/>
          <a:stretch/>
        </p:blipFill>
        <p:spPr>
          <a:xfrm>
            <a:off x="3054240" y="1146240"/>
            <a:ext cx="4578480" cy="5175360"/>
          </a:xfrm>
          <a:prstGeom prst="rect">
            <a:avLst/>
          </a:prstGeom>
          <a:ln w="0">
            <a:noFill/>
          </a:ln>
        </p:spPr>
      </p:pic>
      <p:pic>
        <p:nvPicPr>
          <p:cNvPr id="1019" name="Диаграмма 9" descr=""/>
          <p:cNvPicPr/>
          <p:nvPr/>
        </p:nvPicPr>
        <p:blipFill>
          <a:blip r:embed="rId3"/>
          <a:stretch/>
        </p:blipFill>
        <p:spPr>
          <a:xfrm>
            <a:off x="7778880" y="1279440"/>
            <a:ext cx="41385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шибки в медицинских свидетельствах о смерти в случаях злокачественных ново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Диаграмма 5"/>
          <p:cNvGraphicFramePr/>
          <p:nvPr/>
        </p:nvGraphicFramePr>
        <p:xfrm>
          <a:off x="1106640" y="1360440"/>
          <a:ext cx="10617120" cy="539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2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1360440"/>
                    <a:ext cx="1061712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06:24:11Z</dcterms:created>
  <dc:creator>КУЧУК</dc:creator>
  <dc:description/>
  <dc:language>en-US</dc:language>
  <cp:lastModifiedBy>Сергей</cp:lastModifiedBy>
  <dcterms:modified xsi:type="dcterms:W3CDTF">2015-10-13T20:58:36Z</dcterms:modified>
  <cp:revision>229</cp:revision>
  <dc:subject/>
  <dc:title>Анализ причин смерти по данным БЮРО СУДЕБНО-МЕДИЦИНСКОЙ ЭКСПЕРТИЗЫ МОСКОВСКОЙ ОБЛАСТИ  за 9 месяцев 2014 ГОДа</dc:title>
</cp:coreProperties>
</file>